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191-E837-451E-ADEB-4D438C6F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077-E6D8-4832-A321-F6142F3F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CC6-9B8D-452B-A7B0-2C141E07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48B-554A-4DCB-B9E3-D843C7CE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C3FB-2317-4EE9-8958-CB7BD63A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A4D0-8E04-487B-BC40-50B78DF5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77B9-0072-403E-AAEC-0B4F1AE3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9352-FDD9-4D4E-8E30-32B2AB79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C787-CBD6-4C4A-A18F-560FABF2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4FE5-14EB-44AE-9B3A-D0050686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3F24-6BF9-4EEB-8151-3234AE4D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B06-3C6B-47C0-A7F7-D7BB8DD1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9EBF-6F13-41C9-AAC6-9FA2F64F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C44A-D520-48AC-AF7B-CB0974D9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43D9-62AC-4996-8ECF-C6F9573D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C01C-6AF6-4672-8172-C4163F90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A6C7-0020-471A-8F69-EC6FC19C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DE074-0456-46FC-AB7C-99A5E003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65032-46DA-4F1C-B6FE-27836609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D2E3-CCF1-46D6-B7A9-3F947144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214B-6F6A-4498-AA3F-612E69FF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BDFE0-4D76-47D2-91C2-8ED095B6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113-F0AE-4E14-BBCD-6EC0DF6A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ADD3-342D-4418-8ABB-B70BF745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DE091-C08B-476C-B9D9-6B186B36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76A4-BBEB-47EE-8140-3FD1D711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C7EEE-262D-40D0-9CED-6226383E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F30E-A637-42AB-BFF6-A14CAB69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81BB-64D9-4577-9A98-8DF7C39E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78BE0-BC87-408F-AE1A-89630BEC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135B4-3649-4D40-9896-83994F3C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3D4A-3A67-467F-B40A-929DBABD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75143-A381-492C-89C6-5C116C05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E00-EE5A-4FD7-9F8E-00F8E4B8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C9B81-D02D-466B-A742-984F2019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B9A5-631D-4EC3-9CDA-024C683E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BFF20-139F-4D61-A5CC-36E6BC23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7FB7A-64CB-43B6-8FBB-675061C0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E08A1-ADB8-4CBE-A46C-7EFAB016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CFA04-15FD-41B1-B518-A666CD75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34E11-DD76-452E-976E-7C8E058D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FAE4-47C6-4762-86A3-ECE350C2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C55E6-9912-43B9-8899-B71FF706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F4BCC-9FAF-41B1-BED4-4FA6FEE0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D6F-0B60-42B2-8EFE-87BBAC95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891CE-6D8A-469C-8F0B-D8A10F5C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AC759-D06E-4472-A444-679DD2E3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371E9-8F07-4F24-9534-BE40B90E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7EA71-845D-4A81-A2C6-5CEF5EA4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55BC4-7E0C-4B82-84E8-07C74EA3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0BBE1-4FAB-47F6-BA9F-690C0CCB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80175-80D1-4C2C-B4B2-A24F141B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24A1-2DC1-49DF-AAF4-C0F7FFBB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C7CEE-51B3-4340-9D2E-7BE9C374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4B0AA-6F82-4CF9-88F5-EB7B7E0B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E99-169A-4927-91D0-40CBADAD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40F38-F1D6-4F28-A707-C3DD26AD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7DEEF-2C88-4005-8958-2741231B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7EF04-A274-45AD-99B2-313CDB85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A35CD-3429-459E-9906-943E790F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132B5-D295-4C8C-8294-A2B12134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8706D-F85B-499D-A925-5C0403F5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5F5F-ACB1-4A5E-910F-3C87F3D5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C2A9B-D2CE-4C39-A4EA-23AE2237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8AFBE-502B-4491-B71A-B4928BA1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722E-CB61-4F27-963C-386562B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957-65CB-435D-BDF3-6E42230C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C88FC-242C-4736-BCAC-0E91355E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5695F-5C35-4BCB-9791-1766EBA6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52907-9396-469D-8ED6-FAF875CB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450A7-CCCB-4E43-B3EC-2495DC61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EECA5-B332-4E5E-A84E-5439593E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7DCB9-FEB3-407D-926A-F352F02D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0FE71-82B2-423B-914F-FCA04FDD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6E6EB-E8DD-4C20-83BA-F7BCE68B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45F83-6D4A-4BBA-80ED-60B7EBA0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D2C39-B2CA-4D17-8E3E-26B03210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29D-71F1-4B58-A9A4-5FA842C4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3EDEF-DD9B-4FAE-AB43-780D8114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00C27-89B2-4613-91CA-8BA1BF45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CA935-6B08-4E28-807C-56973173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C3B93-CC62-4320-9004-560E0DBF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FD9B9-C5D9-4E9A-A467-FDA2EBF8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AB9-E8FB-482F-9ED0-03ED46AF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FF70-52FA-4C8D-A4A1-E1B48D1A0BF8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7E80-4711-463D-8F1D-839BA1935FCD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36BA-CD20-4807-BE30-114648D505BC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AB79-67C4-4E28-B36E-AE67C1CA152B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6E9A-C026-4648-86E9-E7800FA83A31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DEFC-DF76-41EC-B333-DDA89A630C6B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DC7F-B742-487E-85A2-1E96DBC03233}" type="slidenum">
              <a:rPr b="0" lang="lt-LT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tau.vadoveliai.lt/patarimai/?cat=22" TargetMode="External"/><Relationship Id="rId2" Type="http://schemas.openxmlformats.org/officeDocument/2006/relationships/hyperlink" Target="http://matau.vadoveliai.lt/vadoveliai/?cat=14" TargetMode="External"/><Relationship Id="rId3" Type="http://schemas.openxmlformats.org/officeDocument/2006/relationships/hyperlink" Target="http://www.pedagogika.lt/index.php?-469374926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lt-LT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19" name="Subtitle 2"/>
          <p:cNvGrpSpPr/>
          <p:nvPr/>
        </p:nvGrpSpPr>
        <p:grpSpPr>
          <a:xfrm>
            <a:off x="1494000" y="506520"/>
            <a:ext cx="6716520" cy="5400720"/>
            <a:chOff x="1494000" y="506520"/>
            <a:chExt cx="6716520" cy="5400720"/>
          </a:xfrm>
        </p:grpSpPr>
        <p:pic>
          <p:nvPicPr>
            <p:cNvPr id="320" name="Subtitle 2" descr=""/>
            <p:cNvPicPr/>
            <p:nvPr/>
          </p:nvPicPr>
          <p:blipFill>
            <a:blip r:embed="rId1"/>
            <a:stretch/>
          </p:blipFill>
          <p:spPr>
            <a:xfrm>
              <a:off x="1494000" y="506520"/>
              <a:ext cx="67165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571760" y="907920"/>
              <a:ext cx="6557760" cy="48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1" lang="lt-LT" sz="6600" spc="-1" strike="noStrike">
                  <a:solidFill>
                    <a:srgbClr val="002060"/>
                  </a:solidFill>
                  <a:latin typeface="Gill Sans MT"/>
                </a:rPr>
                <a:t>Matematika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6600" spc="-1" strike="noStrike">
                  <a:solidFill>
                    <a:srgbClr val="002060"/>
                  </a:solidFill>
                  <a:latin typeface="Gill Sans MT"/>
                </a:rPr>
                <a:t>         </a:t>
              </a:r>
              <a:r>
                <a:rPr b="1" lang="lt-LT" sz="6600" spc="-1" strike="noStrike">
                  <a:solidFill>
                    <a:srgbClr val="002060"/>
                  </a:solidFill>
                  <a:latin typeface="Gill Sans MT"/>
                </a:rPr>
                <a:t>Tau</a:t>
              </a:r>
              <a:br>
                <a:rPr sz="6600"/>
              </a:br>
              <a:r>
                <a:rPr b="1" lang="lt-LT" sz="4800" spc="-1" strike="noStrike">
                  <a:solidFill>
                    <a:srgbClr val="002060"/>
                  </a:solidFill>
                  <a:latin typeface="Gill Sans MT"/>
                </a:rPr>
                <a:t>        6 klas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5400" spc="-1" strike="noStrike">
                  <a:solidFill>
                    <a:srgbClr val="002060"/>
                  </a:solidFill>
                  <a:latin typeface="Arial"/>
                </a:rPr>
                <a:t>Apžvalg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95c03a"/>
                  </a:solidFill>
                  <a:latin typeface="Gill Sans MT"/>
                </a:rPr>
                <a:t>Parengė Griškabūdžio v. m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95c03a"/>
                  </a:solidFill>
                  <a:latin typeface="Gill Sans MT"/>
                </a:rPr>
                <a:t>matematikos mokytoja metodinink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95c03a"/>
                  </a:solidFill>
                  <a:latin typeface="Gill Sans MT"/>
                </a:rPr>
                <a:t>Ilona Tamulien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marL="270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6300720" y="2205000"/>
            <a:ext cx="10080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7497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9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lt-LT" sz="3900" spc="-1" strike="noStrike">
                <a:solidFill>
                  <a:srgbClr val="000000"/>
                </a:solidFill>
                <a:latin typeface="Gill Sans MT"/>
              </a:rPr>
              <a:t>9. </a:t>
            </a:r>
            <a:r>
              <a:rPr b="1" lang="lt-LT" sz="3900" spc="-1" strike="noStrike">
                <a:solidFill>
                  <a:srgbClr val="000000"/>
                </a:solidFill>
                <a:latin typeface="Arial"/>
                <a:ea typeface="Arial"/>
              </a:rPr>
              <a:t>Erdviniai kūnai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28480" y="1428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vietoj piramidės nagrinėjama stačioji prizmė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neskaičiuojamas paviršiaus plotas ir tūris kūnų, kurie yra kelių erdvinių kūnų junginiai – pagal PUBP tai VII–VIII klasių kurs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7905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300" spc="-1" strike="noStrike">
                <a:solidFill>
                  <a:srgbClr val="572314"/>
                </a:solidFill>
                <a:latin typeface="Arial"/>
                <a:ea typeface="Arial"/>
              </a:rPr>
              <a:t>Literatūr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652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matau.vadoveliai.lt/patarimai/?cat=2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matau.vadoveliai.lt/vadoveliai/?cat=1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pedagogika.lt/index.php?-46937492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4"/>
          <a:stretch/>
        </p:blipFill>
        <p:spPr>
          <a:xfrm>
            <a:off x="4140360" y="620640"/>
            <a:ext cx="880920" cy="1152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"/>
          <p:cNvPicPr/>
          <p:nvPr/>
        </p:nvPicPr>
        <p:blipFill>
          <a:blip r:embed="rId5"/>
          <a:stretch/>
        </p:blipFill>
        <p:spPr>
          <a:xfrm>
            <a:off x="5435640" y="620640"/>
            <a:ext cx="865080" cy="1176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6"/>
          <a:stretch/>
        </p:blipFill>
        <p:spPr>
          <a:xfrm>
            <a:off x="6516720" y="620640"/>
            <a:ext cx="863640" cy="1152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"/>
          <p:cNvPicPr/>
          <p:nvPr/>
        </p:nvPicPr>
        <p:blipFill>
          <a:blip r:embed="rId7"/>
          <a:stretch/>
        </p:blipFill>
        <p:spPr>
          <a:xfrm>
            <a:off x="7667640" y="620640"/>
            <a:ext cx="922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300" spc="-1" strike="noStrike">
                <a:solidFill>
                  <a:srgbClr val="572314"/>
                </a:solidFill>
                <a:latin typeface="Gill Sans MT"/>
              </a:rPr>
              <a:t>1. Geometrinės figūr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Apskritimo ilgis, daugiakampio ir skritulio plotai atnaujintose PUBP perkelti į VII–VIII klasių koncentrą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Programa papildyta trikampių skirstymu į grupes pagal kraštin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(į lygiašonius, lygiakraščius, įvairiakraščius) arba pagal kampu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(į smailiuosius, stačiuosius, bukuosius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7956720" y="476280"/>
            <a:ext cx="792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45920" y="692280"/>
            <a:ext cx="5157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2. Natūraliųjų skaičių </a:t>
            </a:r>
            <a:br>
              <a:rPr sz="3900"/>
            </a:b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           dalumas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  <a:ea typeface="Arial"/>
              </a:rPr>
              <a:t>Atnaujintose PUBP nė viename koncentre nėra paminėti nei pirminiai, nei sudėtiniai skaičiai, todėl jų pagrindinėje mokykloje galima ir neįvesti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  <a:ea typeface="Arial"/>
              </a:rPr>
              <a:t>PUBP taip pat nėra skaičiaus skaidymo </a:t>
            </a:r>
            <a:r>
              <a:rPr b="0" lang="lt-LT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irminiai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  <a:ea typeface="Arial"/>
              </a:rPr>
              <a:t> dauginamaisiais, yra tik skaičiaus skaidymas </a:t>
            </a:r>
            <a:r>
              <a:rPr b="0" lang="lt-LT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uginamaisiai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Todėl, pvz., užrašas 24 = 4 · 6 visiškai atitiktų PUBP. Galite tą skaidymą ir pratęsti: 24 = 4 · 6 = 2 · 2 · 2 · 3, neaiškindami, kad gautieji skaičiai jau yra pirminia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7956720" y="476280"/>
            <a:ext cx="792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Title 1"/>
          <p:cNvGrpSpPr/>
          <p:nvPr/>
        </p:nvGrpSpPr>
        <p:grpSpPr>
          <a:xfrm>
            <a:off x="1200240" y="36360"/>
            <a:ext cx="7974000" cy="1621080"/>
            <a:chOff x="1200240" y="36360"/>
            <a:chExt cx="7974000" cy="1621080"/>
          </a:xfrm>
        </p:grpSpPr>
        <p:pic>
          <p:nvPicPr>
            <p:cNvPr id="330" name="Title 1" descr=""/>
            <p:cNvPicPr/>
            <p:nvPr/>
          </p:nvPicPr>
          <p:blipFill>
            <a:blip r:embed="rId1"/>
            <a:stretch/>
          </p:blipFill>
          <p:spPr>
            <a:xfrm>
              <a:off x="1200240" y="36360"/>
              <a:ext cx="797400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434960" y="274680"/>
              <a:ext cx="7499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3900" spc="-1" strike="noStrike">
                  <a:solidFill>
                    <a:srgbClr val="572314"/>
                  </a:solidFill>
                  <a:latin typeface="Gill Sans MT"/>
                </a:rPr>
                <a:t>3. Trupmeniniai skaičiai</a:t>
              </a:r>
              <a:br>
                <a:rPr sz="3900"/>
              </a:b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Pagal PUBP mokiniai turi gebėti apvalinti skaičius tik iki dešimtųjų ir šimtųjų, todėl kai kuriuos uždavinius galima praleisti arba spręsti tik atskiras jų dal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Galima nenagrinėti dešimtainių periodinių trupmenų – pagal atnaujintas PUBP jos perkeltos į VII–VIII klasių koncentrą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2"/>
          <a:stretch/>
        </p:blipFill>
        <p:spPr>
          <a:xfrm>
            <a:off x="7956720" y="476280"/>
            <a:ext cx="792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4. Paprastosios trupmenos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600" y="2133720"/>
            <a:ext cx="673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V–VI kl.) sudėti, atimti, dauginti ir dalyti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paprastąsias trupmenas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(VII–VIII kl.) atlikti veiksmus su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  <a:ea typeface="Arial"/>
              </a:rPr>
              <a:t>įvairiomis trupmenomis, neigiamaisiais ir mišriaisiais skaičiais</a:t>
            </a:r>
            <a:r>
              <a:rPr b="0" lang="lt-LT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7956720" y="333360"/>
            <a:ext cx="792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5. Tūriai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ill Sans MT"/>
              </a:rPr>
              <a:t>Keldami kubu, stengtis naudoti tik mažus skaičius (pagal atnaujintas PUBP mažas skaičius suprantamas kaip 1; 2; …; 9; 0,1; 0,2; …; 0,9; 10; 20; …; 90)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ill Sans MT"/>
              </a:rPr>
              <a:t>Tik su stipresniais mokiniais skaičiuokiti tūrius kūnų, kurie yra kelių žinomų, vienas kito nedengiančių (susiliečiančių) kūnų junginiai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lt-LT" sz="3200" spc="-1" strike="noStrike">
                <a:solidFill>
                  <a:srgbClr val="000000"/>
                </a:solidFill>
                <a:latin typeface="Gill Sans MT"/>
              </a:rPr>
              <a:t>(pagal PUBP – tai VII–VIII klasių    kursa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7740720" y="333360"/>
            <a:ext cx="10080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6191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   </a:t>
            </a: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6. Tarpusavyje susiję</a:t>
            </a:r>
            <a:br>
              <a:rPr sz="3900"/>
            </a:b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          dydžiai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331640" y="141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Gill Sans MT"/>
              </a:rPr>
              <a:t>Esminiai šio skyriaus pasikeitimai (pagal atnaujintas PUBP) – į VII–VIII klasių koncentrą iškeltos dvi temos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Gill Sans MT"/>
              </a:rPr>
              <a:t>duotosios figūros vaizdavimas nurodytu masteliu;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Gill Sans MT"/>
              </a:rPr>
              <a:t>skaičiaus modulis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7956720" y="476280"/>
            <a:ext cx="792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1206360" y="66600"/>
            <a:ext cx="7755120" cy="1371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499760" y="1571400"/>
            <a:ext cx="7209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Atnaujintose PUBP V–VI klasėse nerekomenduojama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pertvarkyti pavidalo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±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raidinius reiškinius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spręsti pavidalo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±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lt-LT" sz="22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 lygtis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Gill Sans MT"/>
              </a:rPr>
              <a:t>naudoti nelygybių ženklus ≥ ir ≤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Reiškinių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±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pertvarkymai ir lygčių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±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·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lt-LT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 sprendimas yra iškeltas į VII–VIII klases, o ženklai ≥ ir ≤ įvedami tik IX–X klasėse. Tačiau sąvokos „ne didesnis“, „ne mažesnis“ jau paminėtos VII–VIII klasėse. Kaip suktis iš šios situacijos, paliekama spręsti patiems mokytojams – galima paklausti ir programų autorių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Gill Sans MT"/>
              </a:rPr>
              <a:t>Kita vertus, visą šį skyrių galima ir praleisti, nes tai, ką rekomenduoja atnaujintos PUBP, išsamiai išdėstyta V klasės vadovėlyje. Tačiau manome, jog tai būtų netikslinga. Kad mokiniai nepamirštų lygčių ir nelygybių, vis dėlto siūlome skirti 2–3 pamokas (mokytojo nuožiūra) šioms temoms pakartot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900" spc="-1" strike="noStrike">
                <a:solidFill>
                  <a:srgbClr val="572314"/>
                </a:solidFill>
                <a:latin typeface="Gill Sans MT"/>
              </a:rPr>
              <a:t>8. </a:t>
            </a:r>
            <a:r>
              <a:rPr b="1" lang="lt-LT" sz="3900" spc="-1" strike="noStrike">
                <a:solidFill>
                  <a:srgbClr val="572314"/>
                </a:solidFill>
                <a:latin typeface="Arial"/>
                <a:ea typeface="Arial"/>
              </a:rPr>
              <a:t>Duomenų rinkimas ir tvarkymas. Rinkiniai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9360">
            <a:solidFill>
              <a:srgbClr val="964305"/>
            </a:solidFill>
            <a:miter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32d47"/>
                </a:solidFill>
                <a:latin typeface="Gill Sans MT"/>
              </a:rPr>
              <a:t>Šiame skyriuje pateikta medžiaga visiškai atitinka PUBP reikalavimu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572000" y="4005360"/>
            <a:ext cx="865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04:54:16Z</dcterms:created>
  <dc:creator>Ilona</dc:creator>
  <dc:description/>
  <cp:keywords>23</cp:keywords>
  <dc:language>en-US</dc:language>
  <cp:lastModifiedBy>Ilona</cp:lastModifiedBy>
  <dcterms:modified xsi:type="dcterms:W3CDTF">2011-01-18T19:29:01Z</dcterms:modified>
  <cp:revision>40</cp:revision>
  <dc:subject/>
  <dc:title>1. Geometrinės figūros 1. Apskritimo ilgis, daugiakampio ir skritulio plotai atnaujintose PUBP perkelti į VII–VIII klasių koncentrą;  2. Programa papildyta trikampių skirstymu į grupes pagal kraštines (į lygiašonius, lygiakraščius, įvairiakraščius) arba pagal kampus (į smailiuosius, stačiuosius, bukuosius).</dc:title>
</cp:coreProperties>
</file>